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ED7-68D9-44F8-9D61-8C8E8BE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E3C-07DA-41B9-B720-16C8700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BB0-24AE-4EB5-8891-5E9A16E5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D1D-D020-41E7-AD91-EBC9DA39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E54-9B9D-45F9-8DB4-38EA95A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ABB-C15A-4F40-B56A-4A53207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642-D568-45DF-B529-DAB2C01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89F-E128-457A-8109-18FF73E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414-F806-48B2-87BD-947EEF89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ED7-F122-4D08-A7F1-6653A92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0A9-4557-46C8-90AF-BB81D58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8BD-E662-47C2-9871-6043890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A3D0-DCE8-4643-826F-E2799B0D4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424720" cy="57600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 AGP SOLICITAN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2133720"/>
            <a:ext cx="1800360" cy="503280"/>
          </a:xfrm>
          <a:prstGeom prst="flowChartProcess">
            <a:avLst/>
          </a:prstGeom>
          <a:solidFill>
            <a:srgbClr val="effc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ITE T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DOCUMEN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3840" y="2133720"/>
            <a:ext cx="1873440" cy="504720"/>
          </a:xfrm>
          <a:prstGeom prst="flowChartProcess">
            <a:avLst/>
          </a:prstGeom>
          <a:solidFill>
            <a:srgbClr val="effc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ITE PAR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DOCUMENT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3286080"/>
            <a:ext cx="1151280" cy="720720"/>
          </a:xfrm>
          <a:prstGeom prst="flowChart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REM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2133720"/>
            <a:ext cx="1800000" cy="504720"/>
          </a:xfrm>
          <a:prstGeom prst="flowChartProcess">
            <a:avLst/>
          </a:prstGeom>
          <a:solidFill>
            <a:srgbClr val="effc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REM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DOCUMENT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288120" y="2133720"/>
            <a:ext cx="1955520" cy="503280"/>
            <a:chOff x="6288120" y="2133720"/>
            <a:chExt cx="1955520" cy="503280"/>
          </a:xfrm>
        </p:grpSpPr>
        <p:sp>
          <p:nvSpPr>
            <p:cNvPr id="47" name=""/>
            <p:cNvSpPr/>
            <p:nvPr/>
          </p:nvSpPr>
          <p:spPr>
            <a:xfrm>
              <a:off x="6288120" y="2133720"/>
              <a:ext cx="1834920" cy="503280"/>
            </a:xfrm>
            <a:prstGeom prst="flowChartProcess">
              <a:avLst/>
            </a:prstGeom>
            <a:solidFill>
              <a:srgbClr val="effc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59400" y="2205000"/>
              <a:ext cx="1884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OLICITA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ÓRRO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50920" y="4508640"/>
            <a:ext cx="1908000" cy="5047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IN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TRABAJO DE AUDI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3286080"/>
            <a:ext cx="1224000" cy="720720"/>
          </a:xfrm>
          <a:prstGeom prst="flowChart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85080" y="3286080"/>
            <a:ext cx="1152720" cy="720720"/>
          </a:xfrm>
          <a:prstGeom prst="flowChartProcess">
            <a:avLst/>
          </a:prstGeom>
          <a:solidFill>
            <a:srgbClr val="ffe4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4360" y="4510080"/>
            <a:ext cx="1908360" cy="5047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IN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TRABAJO DE AUDI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5300640"/>
            <a:ext cx="5543640" cy="50472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MODE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300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EGIO DE AUDI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70028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17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2852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637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221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637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26370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26370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4292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5877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30864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STERIO PUBL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556000" y="652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638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8:51Z</dcterms:created>
  <dc:creator>AGPSalta</dc:creator>
  <dc:description/>
  <dc:language>en-US</dc:language>
  <cp:lastModifiedBy>AGPSalta</cp:lastModifiedBy>
  <dcterms:modified xsi:type="dcterms:W3CDTF">2010-08-19T16:12:12Z</dcterms:modified>
  <cp:revision>4</cp:revision>
  <dc:subject/>
  <dc:title>Diapositiva 1</dc:title>
</cp:coreProperties>
</file>